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784-22BC-4313-9EEC-D44FE891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DBC-304B-47E3-ADA6-82BC0592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B77-D3EA-4E27-90CE-14ED8281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58E-B7E3-44ED-90EC-8AB38B71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E7D-5A95-4DB6-A2EF-7ABFA17B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F2A-D67F-4173-8E3C-BBCE3BD9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7DD-B110-4353-A633-D0544E9C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11F-03E7-4F9A-9D8A-90005034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3CC-3BCB-4A6C-970F-90C04963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6FE-7FC7-4895-937C-33E15DD4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C92-D6FF-414A-9481-DF8E45EB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37B-41D0-4E7C-A494-34B3A635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06A6-AD2C-4B12-A718-DADE81685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333360"/>
            <a:ext cx="8281800" cy="122400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心地よい場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1888" r="10276" b="955"/>
          <a:stretch/>
        </p:blipFill>
        <p:spPr>
          <a:xfrm>
            <a:off x="324000" y="2252520"/>
            <a:ext cx="5616360" cy="434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56360" y="3573360"/>
            <a:ext cx="2736720" cy="266400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須坂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　高橋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高橋　美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280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明朝E"/>
              </a:rPr>
              <a:t>今までだったらこんな風に人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明朝E"/>
              </a:rPr>
              <a:t>甘えることができなかったからで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5373720"/>
            <a:ext cx="180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パパと遊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9063" b="0"/>
          <a:stretch/>
        </p:blipFill>
        <p:spPr>
          <a:xfrm>
            <a:off x="4140360" y="3500280"/>
            <a:ext cx="415764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8280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明朝E"/>
                <a:ea typeface="HGP明朝E"/>
              </a:rPr>
              <a:t>やさしく声をかけてもらうこと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明朝E"/>
                <a:ea typeface="HGP明朝E"/>
              </a:rPr>
              <a:t>助けてもらえることのありがたさ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明朝E"/>
                <a:ea typeface="HGP明朝E"/>
              </a:rPr>
              <a:t>知ったからこそ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5157720"/>
            <a:ext cx="2160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育ての仲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1402" b="0"/>
          <a:stretch/>
        </p:blipFill>
        <p:spPr>
          <a:xfrm>
            <a:off x="3492360" y="3213000"/>
            <a:ext cx="504036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4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32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189000"/>
            <a:ext cx="8280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明朝E"/>
                <a:ea typeface="HGP明朝E"/>
              </a:rPr>
              <a:t>自分から仲間に、手助けす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明朝E"/>
                <a:ea typeface="HGP明朝E"/>
              </a:rPr>
              <a:t>声掛けができるようになりました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58920" y="5157720"/>
            <a:ext cx="2160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育ての仲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1402" b="0"/>
          <a:stretch/>
        </p:blipFill>
        <p:spPr>
          <a:xfrm>
            <a:off x="3492360" y="3213000"/>
            <a:ext cx="504036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6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明朝E"/>
                <a:ea typeface="HGP明朝E"/>
              </a:rPr>
              <a:t>そういう手助けをどんどんしながら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明朝E"/>
                <a:ea typeface="HGP明朝E"/>
              </a:rPr>
              <a:t>『双子が生まれたらもっとみんな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明朝E"/>
                <a:ea typeface="HGP明朝E"/>
              </a:rPr>
              <a:t>助けてもらおう』と思っています。　　</a:t>
            </a:r>
            <a:r>
              <a:rPr b="0" lang="zh-CN" sz="44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　　　　　　　　　　　　　　　　　　　　　　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58920" y="5157720"/>
            <a:ext cx="2160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育ての仲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1402" b="0"/>
          <a:stretch/>
        </p:blipFill>
        <p:spPr>
          <a:xfrm>
            <a:off x="3492360" y="3213000"/>
            <a:ext cx="5040360" cy="3489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1741680" cy="176508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2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40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8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580"/>
                            </p:stCondLst>
                            <p:childTnLst>
                              <p:par>
                                <p:cTn id="234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35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58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280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E"/>
                <a:ea typeface="HGP明朝E"/>
              </a:rPr>
              <a:t>昨年</a:t>
            </a:r>
            <a:r>
              <a:rPr b="0" lang="en-US" sz="4000" spc="-1" strike="noStrike">
                <a:solidFill>
                  <a:srgbClr val="000000"/>
                </a:solidFill>
                <a:latin typeface="HGP明朝E"/>
                <a:ea typeface="HGP明朝E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HGP明朝E"/>
                <a:ea typeface="HGP明朝E"/>
              </a:rPr>
              <a:t>月に第一子を出産し、子育て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E"/>
                <a:ea typeface="HGP明朝E"/>
              </a:rPr>
              <a:t>始めたのは、須坂市に引っ越してき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E"/>
                <a:ea typeface="HGP明朝E"/>
              </a:rPr>
              <a:t>ばかりの時でした。</a:t>
            </a:r>
            <a:r>
              <a:rPr b="0" lang="en-US" sz="4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10213" b="0"/>
          <a:stretch/>
        </p:blipFill>
        <p:spPr>
          <a:xfrm>
            <a:off x="4356000" y="3173400"/>
            <a:ext cx="4248360" cy="3313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27280" y="5445000"/>
            <a:ext cx="1655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しくんと一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4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4920" y="115920"/>
            <a:ext cx="8497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E"/>
                <a:ea typeface="HGP明朝E"/>
              </a:rPr>
              <a:t>心細い思いの中で、チラシを見て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E"/>
                <a:ea typeface="HGP明朝E"/>
              </a:rPr>
              <a:t>育てサークルに出かけ、お母さんた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E"/>
                <a:ea typeface="HGP明朝E"/>
              </a:rPr>
              <a:t>に温かく迎え入れられ、心地よく感じ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E"/>
                <a:ea typeface="HGP明朝E"/>
              </a:rPr>
              <a:t>れました。</a:t>
            </a:r>
            <a:r>
              <a:rPr b="0" lang="en-US" sz="2800" spc="-1" strike="noStrike">
                <a:solidFill>
                  <a:srgbClr val="000000"/>
                </a:solidFill>
                <a:latin typeface="HGP明朝E"/>
                <a:ea typeface="HGP明朝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10213" b="0"/>
          <a:stretch/>
        </p:blipFill>
        <p:spPr>
          <a:xfrm>
            <a:off x="4356000" y="3173400"/>
            <a:ext cx="4248360" cy="331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7280" y="5445000"/>
            <a:ext cx="1655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しくんと一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8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16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明朝E"/>
                <a:ea typeface="HGP明朝E"/>
              </a:rPr>
              <a:t>特にありがたかったのは、自分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明朝E"/>
                <a:ea typeface="HGP明朝E"/>
              </a:rPr>
              <a:t>体調を崩したときです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10244" b="0"/>
          <a:stretch/>
        </p:blipFill>
        <p:spPr>
          <a:xfrm>
            <a:off x="4211640" y="2946240"/>
            <a:ext cx="4537080" cy="3540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84360" y="5445000"/>
            <a:ext cx="1582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しくんと一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4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280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E"/>
                <a:ea typeface="HGP明朝E"/>
              </a:rPr>
              <a:t>私が入院したときに、お母さん数名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E"/>
                <a:ea typeface="HGP明朝E"/>
              </a:rPr>
              <a:t>毎日見舞いに来てくれて、「必要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E"/>
                <a:ea typeface="HGP明朝E"/>
              </a:rPr>
              <a:t>ものない？」と声をかけてくれまし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10244" b="0"/>
          <a:stretch/>
        </p:blipFill>
        <p:spPr>
          <a:xfrm>
            <a:off x="4211640" y="2946240"/>
            <a:ext cx="4537080" cy="354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84360" y="5445000"/>
            <a:ext cx="15829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としくんと一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2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136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明朝E"/>
              </a:rPr>
              <a:t>そのような人達の存在が私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HGP明朝E"/>
              </a:rPr>
              <a:t>元気と勇気を与えてくれまし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5445000"/>
            <a:ext cx="251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おばあちゃんと　としく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10244" b="0"/>
          <a:stretch/>
        </p:blipFill>
        <p:spPr>
          <a:xfrm>
            <a:off x="4140360" y="3260880"/>
            <a:ext cx="431928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6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280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E"/>
                <a:ea typeface="HGP明朝E"/>
              </a:rPr>
              <a:t>現在、双子を妊娠しており、このよう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E"/>
                <a:ea typeface="HGP明朝E"/>
              </a:rPr>
              <a:t>仲間がいなければ、ただただ不安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E"/>
                <a:ea typeface="HGP明朝E"/>
              </a:rPr>
              <a:t>わからないことだらけだったでしょう。</a:t>
            </a:r>
            <a:r>
              <a:rPr b="0" lang="en-US" sz="4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10244" b="0"/>
          <a:stretch/>
        </p:blipFill>
        <p:spPr>
          <a:xfrm>
            <a:off x="4140360" y="3260880"/>
            <a:ext cx="4319280" cy="3369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47640" y="5445000"/>
            <a:ext cx="251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おばあちゃんと　としく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6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4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2803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明朝E"/>
                <a:ea typeface="HGP明朝E"/>
              </a:rPr>
              <a:t>多くの皆さんに支えられ、こ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明朝E"/>
                <a:ea typeface="HGP明朝E"/>
              </a:rPr>
              <a:t>出会いに心から感謝しています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5373720"/>
            <a:ext cx="180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パパと遊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9063" b="0"/>
          <a:stretch/>
        </p:blipFill>
        <p:spPr>
          <a:xfrm>
            <a:off x="4140360" y="3500280"/>
            <a:ext cx="415764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2803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P明朝E"/>
              </a:rPr>
              <a:t>『子どもがいなかったらこんな経験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P明朝E"/>
              </a:rPr>
              <a:t>できなかった』と、育児の苦労もあり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HGP明朝E"/>
              </a:rPr>
              <a:t>たく感じられるようになりまし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5373720"/>
            <a:ext cx="180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パパと遊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9063" b="0"/>
          <a:stretch/>
        </p:blipFill>
        <p:spPr>
          <a:xfrm>
            <a:off x="4140360" y="3500280"/>
            <a:ext cx="415764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2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48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5:18Z</dcterms:created>
  <dc:creator> </dc:creator>
  <dc:description/>
  <dc:language>en-US</dc:language>
  <cp:lastModifiedBy> </cp:lastModifiedBy>
  <dcterms:modified xsi:type="dcterms:W3CDTF">2008-01-23T08:21:22Z</dcterms:modified>
  <cp:revision>5</cp:revision>
  <dc:subject/>
  <dc:title>スライド 1</dc:title>
</cp:coreProperties>
</file>